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BD0-9B69-4A4A-B30F-CF36F3CA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D41-7E17-4F71-9FBA-293DAB8E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198-EDED-4A16-BECD-CEB3E79C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6CC-F381-420A-AA47-A70E8418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BC7-20AF-489A-94EC-9567FE09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AA5-AA7C-4B20-8A56-7BA8D3F6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1C9-4D1E-456B-A039-3F11DD0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174-BCD9-499E-BFB4-F6B561DA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4E5-492A-4B51-A23C-2F057025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FFF-CD3B-40AF-8374-A46CACE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D6E-8926-40EC-B336-6F43D35E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731-8C37-4B7D-9732-EE5D9CE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0B53-1B52-42F8-A3D4-3801D0C99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pbs.org/video/1832507650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 American Civil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fort sumter.jpg"/>
          <p:cNvPicPr/>
          <p:nvPr/>
        </p:nvPicPr>
        <p:blipFill>
          <a:blip r:embed="rId1"/>
          <a:stretch/>
        </p:blipFill>
        <p:spPr>
          <a:xfrm>
            <a:off x="0" y="10954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eginning of the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Bruce%20Springsteen%20wa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457200" y="1828800"/>
            <a:ext cx="4038480" cy="375156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ham Lincoln won the 1860 Presidential 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jor issues: States Rights an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 Carolina secedes and demands U.S. Army withdraw troops from Charlest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harbor (January 18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Under Sie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457200" y="1981080"/>
            <a:ext cx="36576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ederate Stat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ies take control of Charleston, except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ordered supply ships to Fort Sumter to assist Major Anderson protect the 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le at 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ril 12, 186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adier General Beauregard ordered the attack on Fort Sum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ttle lasted for two days without casual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Anderson surrendered on April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4" descr="fort sumter f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581280"/>
            <a:ext cx="403848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ort sumter flag.gif"/>
          <p:cNvPicPr/>
          <p:nvPr/>
        </p:nvPicPr>
        <p:blipFill>
          <a:blip r:embed="rId3"/>
          <a:stretch/>
        </p:blipFill>
        <p:spPr>
          <a:xfrm>
            <a:off x="4572000" y="1828800"/>
            <a:ext cx="206856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ts3.mm.bing.net/images/thumbnail.aspx?q=933902760558&amp;id=39bfd33f9144ecceeeadd0c436e178bc&amp;url=http%3a%2f%2fallflagwallpaper.com%2fimages%2fconfederate-flag-1-1024x768.jpg"/>
          <p:cNvPicPr/>
          <p:nvPr/>
        </p:nvPicPr>
        <p:blipFill>
          <a:blip r:embed="rId4"/>
          <a:stretch/>
        </p:blipFill>
        <p:spPr>
          <a:xfrm>
            <a:off x="6934320" y="182880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2362320"/>
            <a:ext cx="403884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called for 75,000 volunteers to suppress the rebell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used four more states to sece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onfederate-fort-sumter.jpg"/>
          <p:cNvPicPr/>
          <p:nvPr/>
        </p:nvPicPr>
        <p:blipFill>
          <a:blip r:embed="rId1"/>
          <a:stretch/>
        </p:blipFill>
        <p:spPr>
          <a:xfrm>
            <a:off x="4648320" y="1523880"/>
            <a:ext cx="4267080" cy="290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ts2.mm.bing.net/images/thumbnail.aspx?q=932694527401&amp;id=2c8c02090f86751c705edd9e8a4135f7&amp;url=http%3a%2f%2fveteranletters.blogs.com%2fphotos%2fsoldiers%2funion_soldier.jpg"/>
          <p:cNvPicPr/>
          <p:nvPr/>
        </p:nvPicPr>
        <p:blipFill>
          <a:blip r:embed="rId2"/>
          <a:stretch/>
        </p:blipFill>
        <p:spPr>
          <a:xfrm>
            <a:off x="6095880" y="4343400"/>
            <a:ext cx="13716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ession of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prior to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ssissip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ba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uisi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after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all for troo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Virgi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Arkan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Nor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eceded Slave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Delaware &amp; Mary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extBox 5" descr=""/>
          <p:cNvPicPr/>
          <p:nvPr/>
        </p:nvPicPr>
        <p:blipFill>
          <a:blip r:embed="rId1"/>
          <a:stretch/>
        </p:blipFill>
        <p:spPr>
          <a:xfrm>
            <a:off x="438120" y="1773360"/>
            <a:ext cx="4992840" cy="4163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943600" y="2133720"/>
            <a:ext cx="2819520" cy="32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rd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st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entuc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isso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la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y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so for the next six years the Civil War would tear apart the count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4-30T12:28:25Z</dcterms:modified>
  <cp:revision>46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