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BAF-7F22-444E-B88C-C30A16F6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E68-5A57-4407-A4C1-D95CA58E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A3A-4BF4-4687-B255-D8B5CDCF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383-6196-4BEC-8C58-D4EC847F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F0A-644D-4F2C-9367-BDAABB96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94C-152B-43F9-BF64-95810E77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2FB-E2D7-47DD-A470-65E13D2F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747-2422-4F11-9F24-1C9CA3B5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244-1E67-43A9-AB85-1CF0B373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E28-200D-429E-9781-94FC9D7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0B2-B845-4DAB-89C5-930A6B46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0B2-66ED-4F14-BB40-B5F3BADE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20B1-4FC3-4E43-A957-3F7F0035F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deo.pbs.org/video/1832507650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 American Civil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fort sumter.jpg"/>
          <p:cNvPicPr/>
          <p:nvPr/>
        </p:nvPicPr>
        <p:blipFill>
          <a:blip r:embed="rId1"/>
          <a:stretch/>
        </p:blipFill>
        <p:spPr>
          <a:xfrm>
            <a:off x="0" y="10954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eginning of the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Bruce%20Springsteen%20wa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457200" y="1828800"/>
            <a:ext cx="4038480" cy="375156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aham Lincoln won the 1860 Presidential 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jor issues: States Rights and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th Carolina secedes and demands U.S. Army withdraw troops from Charlest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harbor (January 18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Under Sie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457200" y="1981080"/>
            <a:ext cx="365760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ederate Stat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mies take control of Charleston, except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ordered supply ships to Fort Sumter to assist Major Anderson protect the 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le at 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ril 12, 186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gadier General Beauregard ordered the attack on Fort Sum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ttle lasted for two days without casual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Anderson surrendered on April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4" descr="fort sumter fi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581280"/>
            <a:ext cx="4038480" cy="294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ort sumter flag.gif"/>
          <p:cNvPicPr/>
          <p:nvPr/>
        </p:nvPicPr>
        <p:blipFill>
          <a:blip r:embed="rId3"/>
          <a:stretch/>
        </p:blipFill>
        <p:spPr>
          <a:xfrm>
            <a:off x="4572000" y="1828800"/>
            <a:ext cx="206856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ts3.mm.bing.net/images/thumbnail.aspx?q=933902760558&amp;id=39bfd33f9144ecceeeadd0c436e178bc&amp;url=http%3a%2f%2fallflagwallpaper.com%2fimages%2fconfederate-flag-1-1024x768.jpg"/>
          <p:cNvPicPr/>
          <p:nvPr/>
        </p:nvPicPr>
        <p:blipFill>
          <a:blip r:embed="rId4"/>
          <a:stretch/>
        </p:blipFill>
        <p:spPr>
          <a:xfrm>
            <a:off x="6934320" y="182880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2362320"/>
            <a:ext cx="4038840" cy="320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called for 75,000 volunteers to suppress the rebell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used four more states to sece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confederate-fort-sumter.jpg"/>
          <p:cNvPicPr/>
          <p:nvPr/>
        </p:nvPicPr>
        <p:blipFill>
          <a:blip r:embed="rId1"/>
          <a:stretch/>
        </p:blipFill>
        <p:spPr>
          <a:xfrm>
            <a:off x="4648320" y="1523880"/>
            <a:ext cx="4267080" cy="290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ts2.mm.bing.net/images/thumbnail.aspx?q=932694527401&amp;id=2c8c02090f86751c705edd9e8a4135f7&amp;url=http%3a%2f%2fveteranletters.blogs.com%2fphotos%2fsoldiers%2funion_soldier.jpg"/>
          <p:cNvPicPr/>
          <p:nvPr/>
        </p:nvPicPr>
        <p:blipFill>
          <a:blip r:embed="rId2"/>
          <a:stretch/>
        </p:blipFill>
        <p:spPr>
          <a:xfrm>
            <a:off x="6095880" y="4343400"/>
            <a:ext cx="13716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ession of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prior to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el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ssissip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aba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uisia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after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all for troo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Virgi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Arkan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Tennes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Nor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eceded Slave St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Delaware &amp; Mary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TextBox 5" descr=""/>
          <p:cNvPicPr/>
          <p:nvPr/>
        </p:nvPicPr>
        <p:blipFill>
          <a:blip r:embed="rId1"/>
          <a:stretch/>
        </p:blipFill>
        <p:spPr>
          <a:xfrm>
            <a:off x="438120" y="1773360"/>
            <a:ext cx="4992840" cy="4163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943600" y="2133720"/>
            <a:ext cx="2819520" cy="32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rder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est Virgi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Kentuc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isso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la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ary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so for the next six years the Civil War would tear apart the count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4-30T12:28:25Z</dcterms:modified>
  <cp:revision>46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