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2E5D-C7FC-49A6-B0E8-B3F2EB4CD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D04B-26C0-4D92-9BEF-C24AA434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5261-7B4D-49C8-9ED0-AA6D74F3E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1DB8-D570-4E42-B70E-EA915BADB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BB67-9016-4D3A-9407-BD878848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47F6-258D-41D1-BAFD-21095F5A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41D2-FD09-48ED-918A-B6E2939C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3526-4DA0-47F6-90C7-617835DE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70F7-6D5D-47C4-A205-ED1361A9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E2D9-8F30-47BD-B742-D783C0F5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1D04-0183-47CD-82FB-9E273891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1A56-C7C6-46C1-8F71-1E522B90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0314-5108-40D6-B790-652ADB0C2F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14600" y="3276360"/>
            <a:ext cx="4038480" cy="533160"/>
          </a:xfrm>
          <a:prstGeom prst="rect">
            <a:avLst/>
          </a:prstGeom>
          <a:solidFill>
            <a:srgbClr val="558ed5"/>
          </a:solidFill>
          <a:ln w="38160">
            <a:solidFill>
              <a:srgbClr val="10253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609480" y="2057400"/>
            <a:ext cx="7620120" cy="825120"/>
          </a:xfrm>
          <a:prstGeom prst="rect">
            <a:avLst/>
          </a:prstGeom>
          <a:solidFill>
            <a:srgbClr val="558ed5"/>
          </a:solidFill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38160">
            <a:solidFill>
              <a:srgbClr val="10253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Content Placeholder 6" descr="abraham lincoln.jpg"/>
          <p:cNvPicPr/>
          <p:nvPr/>
        </p:nvPicPr>
        <p:blipFill>
          <a:blip r:embed="rId1"/>
          <a:stretch/>
        </p:blipFill>
        <p:spPr>
          <a:xfrm>
            <a:off x="4948200" y="1600200"/>
            <a:ext cx="3438720" cy="4525920"/>
          </a:xfrm>
          <a:prstGeom prst="rect">
            <a:avLst/>
          </a:prstGeom>
          <a:ln w="0">
            <a:noFill/>
          </a:ln>
        </p:spPr>
      </p:pic>
      <p:sp>
        <p:nvSpPr>
          <p:cNvPr id="45" name="TextBox 11"/>
          <p:cNvSpPr/>
          <p:nvPr/>
        </p:nvSpPr>
        <p:spPr>
          <a:xfrm>
            <a:off x="457200" y="1828800"/>
            <a:ext cx="4038480" cy="459720"/>
          </a:xfrm>
          <a:prstGeom prst="rect">
            <a:avLst/>
          </a:prstGeom>
          <a:solidFill>
            <a:srgbClr val="f2f2f2"/>
          </a:solidFill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38160">
            <a:solidFill>
              <a:srgbClr val="10253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4" descr="confederate flag 1.gif"/>
          <p:cNvPicPr/>
          <p:nvPr/>
        </p:nvPicPr>
        <p:blipFill>
          <a:blip r:embed="rId1"/>
          <a:stretch/>
        </p:blipFill>
        <p:spPr>
          <a:xfrm>
            <a:off x="4648320" y="2652840"/>
            <a:ext cx="4038480" cy="2420640"/>
          </a:xfrm>
          <a:prstGeom prst="rect">
            <a:avLst/>
          </a:prstGeom>
          <a:ln w="0">
            <a:noFill/>
          </a:ln>
        </p:spPr>
      </p:pic>
      <p:sp>
        <p:nvSpPr>
          <p:cNvPr id="48" name="TextBox 10"/>
          <p:cNvSpPr/>
          <p:nvPr/>
        </p:nvSpPr>
        <p:spPr>
          <a:xfrm>
            <a:off x="457200" y="1981080"/>
            <a:ext cx="365760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38160">
            <a:solidFill>
              <a:srgbClr val="17375e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17375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17375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600200"/>
            <a:ext cx="8001000" cy="327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10253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cus or thematic question for 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9:42:18Z</dcterms:created>
  <dc:creator>william.graham</dc:creator>
  <dc:description/>
  <dc:language>en-US</dc:language>
  <cp:lastModifiedBy>Mooney, Liam</cp:lastModifiedBy>
  <dcterms:modified xsi:type="dcterms:W3CDTF">2014-05-09T15:30:41Z</dcterms:modified>
  <cp:revision>48</cp:revision>
  <dc:subject/>
  <dc:title>Fort Sumt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