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DFA5-226E-42F0-898B-B55A58097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FE2C-39BE-4432-A10A-8A0C399A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E6D0-AEA7-495E-B673-0B53F6D69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FB50-AD8D-422A-AB83-436A49F54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7C45-C383-4565-8D4A-5E59985B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D64B-FDA6-4A9F-B154-DF5FBC7C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0411-5B98-4136-81A0-82C5016A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8D73-EBCB-4794-8263-C08C096A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BE9A-1103-4BB5-B12D-7BF1EC6A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F97C-D0FF-457A-A525-06BD0428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E00A-8188-4519-AD7C-9297AC55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DEA8-A515-4162-A416-9F2FAB6A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B2B0-D1BA-4C37-867A-610121D09E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14600" y="3276360"/>
            <a:ext cx="4038480" cy="533160"/>
          </a:xfrm>
          <a:prstGeom prst="rect">
            <a:avLst/>
          </a:prstGeom>
          <a:solidFill>
            <a:srgbClr val="558ed5"/>
          </a:solidFill>
          <a:ln w="38160">
            <a:solidFill>
              <a:srgbClr val="10253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609480" y="2057400"/>
            <a:ext cx="7620120" cy="825120"/>
          </a:xfrm>
          <a:prstGeom prst="rect">
            <a:avLst/>
          </a:prstGeom>
          <a:solidFill>
            <a:srgbClr val="558ed5"/>
          </a:solidFill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38160">
            <a:solidFill>
              <a:srgbClr val="10253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Content Placeholder 6" descr="abraham lincoln.jpg"/>
          <p:cNvPicPr/>
          <p:nvPr/>
        </p:nvPicPr>
        <p:blipFill>
          <a:blip r:embed="rId1"/>
          <a:stretch/>
        </p:blipFill>
        <p:spPr>
          <a:xfrm>
            <a:off x="4948200" y="1600200"/>
            <a:ext cx="3438720" cy="4525920"/>
          </a:xfrm>
          <a:prstGeom prst="rect">
            <a:avLst/>
          </a:prstGeom>
          <a:ln w="0">
            <a:noFill/>
          </a:ln>
        </p:spPr>
      </p:pic>
      <p:sp>
        <p:nvSpPr>
          <p:cNvPr id="45" name="TextBox 11"/>
          <p:cNvSpPr/>
          <p:nvPr/>
        </p:nvSpPr>
        <p:spPr>
          <a:xfrm>
            <a:off x="457200" y="1828800"/>
            <a:ext cx="4038480" cy="459720"/>
          </a:xfrm>
          <a:prstGeom prst="rect">
            <a:avLst/>
          </a:prstGeom>
          <a:solidFill>
            <a:srgbClr val="f2f2f2"/>
          </a:solidFill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38160">
            <a:solidFill>
              <a:srgbClr val="10253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4" descr="confederate flag 1.gif"/>
          <p:cNvPicPr/>
          <p:nvPr/>
        </p:nvPicPr>
        <p:blipFill>
          <a:blip r:embed="rId1"/>
          <a:stretch/>
        </p:blipFill>
        <p:spPr>
          <a:xfrm>
            <a:off x="4648320" y="2652840"/>
            <a:ext cx="4038480" cy="2420640"/>
          </a:xfrm>
          <a:prstGeom prst="rect">
            <a:avLst/>
          </a:prstGeom>
          <a:ln w="0">
            <a:noFill/>
          </a:ln>
        </p:spPr>
      </p:pic>
      <p:sp>
        <p:nvSpPr>
          <p:cNvPr id="48" name="TextBox 10"/>
          <p:cNvSpPr/>
          <p:nvPr/>
        </p:nvSpPr>
        <p:spPr>
          <a:xfrm>
            <a:off x="457200" y="1981080"/>
            <a:ext cx="365760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38160">
            <a:solidFill>
              <a:srgbClr val="17375e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17375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17375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600200"/>
            <a:ext cx="8001000" cy="327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10253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cus or thematic question for 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9:42:18Z</dcterms:created>
  <dc:creator>william.graham</dc:creator>
  <dc:description/>
  <dc:language>en-US</dc:language>
  <cp:lastModifiedBy>Mooney, Liam</cp:lastModifiedBy>
  <dcterms:modified xsi:type="dcterms:W3CDTF">2014-05-09T15:30:41Z</dcterms:modified>
  <cp:revision>48</cp:revision>
  <dc:subject/>
  <dc:title>Fort Sumt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