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A8C-A0CB-44E8-8A38-382D91C8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6C2-2855-4B1B-BE72-E156ECB0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CAD-3324-4C2C-807E-73FD49F4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C09-CD8E-42FC-B8C2-07DA790E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D65-E29A-4E60-A781-DFC42759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098-D04E-4D6B-939F-1FFC6710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67F-369F-488E-B02B-9CC08D97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3DD-0877-46AB-90B1-E52D2A04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E53-3022-4A9B-80DF-E7881A00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9C2-CFDD-46BF-A163-F582DCAB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E35-2587-4C41-85BA-3F25A03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197-B275-41D9-87A7-E117021F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CE52-93B4-44E1-9A72-C1687292D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457200" y="1828800"/>
            <a:ext cx="4038480" cy="45972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457200" y="1981080"/>
            <a:ext cx="365760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or thematic question for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5-09T15:30:41Z</dcterms:modified>
  <cp:revision>48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