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1F9-7EB6-48A0-98C9-06D33430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067-5F79-460B-A718-C88187C7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A00-059E-465A-A689-577CF1F5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5B7-973D-4F33-A6B3-59BBCC6A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468-F365-46B1-BDC1-6E5630A8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ACD-35E3-4346-84FB-3D927D44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32E-A089-4EE1-9166-E1C278B2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BEA-D0EB-4741-AA45-76B4B134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804-4DB0-46A6-9CBD-3B5C5923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361-1B0A-42B2-896B-C3709E99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76A-B1D8-4717-BD49-E4A427A2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D4A-77C8-49C2-9830-2181F66A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D0C1-9FE0-494A-8BC1-CB40F59EA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457200" y="1828800"/>
            <a:ext cx="4038480" cy="45972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457200" y="1981080"/>
            <a:ext cx="365760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or thematic question for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5-09T15:30:41Z</dcterms:modified>
  <cp:revision>48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