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810-6E7B-43DA-9668-AA510C3F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051-9E66-426F-90E9-EF652CA8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226-D825-43B4-84BB-F0DA2A9E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752-DEBD-43E5-9D21-1C5F226E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669-726E-413F-B10C-56B07956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BF3-F665-4E05-90D8-70FD7B87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2DA-EEF2-4D69-8D03-71B97BCB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5CB-4C54-497D-9E93-92315C85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C8F-5D89-418B-B962-481D4318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2BB-8874-4D07-8DFE-16F07E6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490-5505-45DD-948F-474C688B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6F1-34C7-4663-8031-B70ACF2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0FA8-B814-4C73-8C02-1E5978964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3276360"/>
            <a:ext cx="4038480" cy="53316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09480" y="2057400"/>
            <a:ext cx="7620120" cy="82512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6" descr="abraham lincoln.jpg"/>
          <p:cNvPicPr/>
          <p:nvPr/>
        </p:nvPicPr>
        <p:blipFill>
          <a:blip r:embed="rId1"/>
          <a:stretch/>
        </p:blipFill>
        <p:spPr>
          <a:xfrm>
            <a:off x="4948200" y="160020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457200" y="1828800"/>
            <a:ext cx="4038480" cy="459720"/>
          </a:xfrm>
          <a:prstGeom prst="rect">
            <a:avLst/>
          </a:prstGeom>
          <a:solidFill>
            <a:srgbClr val="f2f2f2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confederate flag 1.gif"/>
          <p:cNvPicPr/>
          <p:nvPr/>
        </p:nvPicPr>
        <p:blipFill>
          <a:blip r:embed="rId1"/>
          <a:stretch/>
        </p:blipFill>
        <p:spPr>
          <a:xfrm>
            <a:off x="4648320" y="2652840"/>
            <a:ext cx="4038480" cy="2420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457200" y="1981080"/>
            <a:ext cx="365760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8ed5"/>
          </a:solidFill>
          <a:ln w="381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800100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or thematic question for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42:18Z</dcterms:created>
  <dc:creator>william.graham</dc:creator>
  <dc:description/>
  <dc:language>en-US</dc:language>
  <cp:lastModifiedBy>Mooney, Liam</cp:lastModifiedBy>
  <dcterms:modified xsi:type="dcterms:W3CDTF">2014-05-09T15:30:41Z</dcterms:modified>
  <cp:revision>48</cp:revision>
  <dc:subject/>
  <dc:title>Fort Sum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