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92F-FF31-459B-B881-2F5F3CB8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6B0-4C7D-4DDE-935C-907E6950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9EE-6B18-4B30-85E8-D999471E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468-C28A-40A1-8EBD-2F392BF3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386-CF28-46E1-B9DC-71761FF9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9F0-9326-4B74-BFB8-386CA526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4B9-F8FC-4644-8060-B4B0C527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6EC-C4F6-483A-BE29-D01FA5AE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FCF-CF80-4A2F-8E55-DEF5E8A8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DEF-4B73-43A7-BDAC-AD4F65B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9D3-F76D-49CB-9C43-AF97A5AC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446-A8D5-4E19-B192-98BB2F49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5829-E510-437A-80F2-640A8F71E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457200" y="1828800"/>
            <a:ext cx="4038480" cy="45972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457200" y="1981080"/>
            <a:ext cx="365760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or thematic question for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5-09T15:30:41Z</dcterms:modified>
  <cp:revision>48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