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437-D835-461C-AD8F-E34CCB29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2E9-3A99-4427-9583-9D37DAF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499-A24D-40AA-A573-B8193DD2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E71-0BA8-4B74-BF5E-FAED1998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A76-7B36-447F-8233-AA0F9E69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161-E989-4E87-9A25-F0D8B07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982-20F1-47D2-9D7B-91E6EEFB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3E8-3126-4758-9E8C-F6BE9EB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7B9-D379-497D-B03D-E46C380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C16-0796-490B-A792-495C33E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D96-52C5-45FB-8378-0E257E4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428-9A1D-4D21-B111-FD5016B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A783-FBA6-4E20-B2A7-FD41B5618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Settlement of the Middle Colon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541008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f2dcd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ere the middle colo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o controlled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062160" y="609480"/>
            <a:ext cx="325296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onofthesouth.net/revolutionary-war/colonies/new-netherland.jpg"/>
          <p:cNvPicPr/>
          <p:nvPr/>
        </p:nvPicPr>
        <p:blipFill>
          <a:blip r:embed="rId1"/>
          <a:stretch/>
        </p:blipFill>
        <p:spPr>
          <a:xfrm>
            <a:off x="152280" y="1981080"/>
            <a:ext cx="527364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562720" y="2057400"/>
            <a:ext cx="3332160" cy="3416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A Diverse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21, the Dutch West India Company colonizes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ttlers from other European countries and Africa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utch trade for furs with Native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0" y="380880"/>
            <a:ext cx="3962520" cy="703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ut the Dutch couldn’t hold onto the colon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13colonies"/>
          <p:cNvPicPr/>
          <p:nvPr/>
        </p:nvPicPr>
        <p:blipFill>
          <a:blip r:embed="rId1"/>
          <a:srcRect l="11805" t="1644" r="39671" b="4525"/>
          <a:stretch/>
        </p:blipFill>
        <p:spPr>
          <a:xfrm>
            <a:off x="762120" y="1447920"/>
            <a:ext cx="335268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267080" y="1295280"/>
            <a:ext cx="2286000" cy="1191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o you think wants control of the these Middle Colonies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1680" y="2514600"/>
            <a:ext cx="198144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hink of who controls the colonies to the North and South of the Middle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4495680" y="4724280"/>
            <a:ext cx="356076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64, duke of York becomes owner of 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he renames the colo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1753920" y="457200"/>
            <a:ext cx="49737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e Quakers Settle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1143000"/>
            <a:ext cx="4572000" cy="2867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enn’s “Holy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81,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William Penn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founds Pennsylvania on Quaker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Quakers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deas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equality, cooperation, religious toleration, pacif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sylvania meant to be a “holy experi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adult males get 50 acres,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representative 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freedom of reli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114800" y="4648320"/>
            <a:ext cx="4114800" cy="947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Native America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 treats native people fairly; over 50 years without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5791320"/>
            <a:ext cx="32004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oes Penn remind you of any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www.tudo.co.uk/quakers_craw/shell_quakers/contents/quakers/images_quakers/william_penn_1644_1718/william_penn_and_the_indians_of_pennsylvania_scr703x480.jpg"/>
          <p:cNvPicPr/>
          <p:nvPr/>
        </p:nvPicPr>
        <p:blipFill>
          <a:blip r:embed="rId1"/>
          <a:stretch/>
        </p:blipFill>
        <p:spPr>
          <a:xfrm>
            <a:off x="5024520" y="1295280"/>
            <a:ext cx="3906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"/>
          <p:cNvSpPr/>
          <p:nvPr/>
        </p:nvSpPr>
        <p:spPr>
          <a:xfrm>
            <a:off x="228600" y="2590920"/>
            <a:ext cx="3581280" cy="1221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752, there are 13 British colonie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09680" y="533520"/>
            <a:ext cx="4038840" cy="398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gi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http://upload.wikimedia.org/wikipedia/commons/1/1d/Slavery_in_the_13_colonies.jpg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49:24Z</dcterms:created>
  <dc:creator>liam_mooney</dc:creator>
  <dc:description/>
  <dc:language>en-US</dc:language>
  <cp:lastModifiedBy> </cp:lastModifiedBy>
  <dcterms:modified xsi:type="dcterms:W3CDTF">2010-09-23T02:29:31Z</dcterms:modified>
  <cp:revision>10</cp:revision>
  <dc:subject/>
  <dc:title>Settlement of the Middle Colonies </dc:title>
</cp:coreProperties>
</file>