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F35-E45C-4A0A-9F4B-007343CA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AFF-FB3E-4159-A093-69031F89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661-3E81-43BF-985F-B1CA50FF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271-104A-4F65-AC1F-F0F5310A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C83-72A8-4E13-89FB-4D0BA4D7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41E-29C4-4505-AEA7-845A18B2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1BA-8C4C-413D-B326-50C7B24E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851-BFD7-42B5-807E-0B679F72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24E-7348-4E5D-8E33-1CBD338E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64F-72D4-43D2-A3CB-F18BFD7A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134-B361-4C8E-A538-2C93AE15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199-AD23-4415-B3F3-1ABC5E8A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260E-3F20-4773-9F3E-D22155AFD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Settlement of the Middle Colon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038120"/>
            <a:ext cx="5410080" cy="1143000"/>
          </a:xfrm>
          <a:prstGeom prst="rect">
            <a:avLst/>
          </a:prstGeom>
          <a:solidFill>
            <a:srgbClr val="f2dcdb"/>
          </a:solidFill>
          <a:ln w="9360">
            <a:solidFill>
              <a:srgbClr val="f2dcdb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Where the middle colo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Who controlled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062160" y="609480"/>
            <a:ext cx="3252960" cy="581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New Neth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onofthesouth.net/revolutionary-war/colonies/new-netherland.jpg"/>
          <p:cNvPicPr/>
          <p:nvPr/>
        </p:nvPicPr>
        <p:blipFill>
          <a:blip r:embed="rId1"/>
          <a:stretch/>
        </p:blipFill>
        <p:spPr>
          <a:xfrm>
            <a:off x="152280" y="1981080"/>
            <a:ext cx="527364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5562720" y="2057400"/>
            <a:ext cx="3332160" cy="3416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A Diverse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n 1621, the Dutch West India Company colonizes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New Ne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ttlers from other European countries and Africa welc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utch trade for furs with Native Amer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0" y="380880"/>
            <a:ext cx="3962520" cy="703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ut the Dutch couldn’t hold onto the colon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513colonies"/>
          <p:cNvPicPr/>
          <p:nvPr/>
        </p:nvPicPr>
        <p:blipFill>
          <a:blip r:embed="rId1"/>
          <a:srcRect l="11805" t="1644" r="39671" b="4525"/>
          <a:stretch/>
        </p:blipFill>
        <p:spPr>
          <a:xfrm>
            <a:off x="762120" y="1447920"/>
            <a:ext cx="3352680" cy="5165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267080" y="1295280"/>
            <a:ext cx="2286000" cy="1191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o you think wants control of the these Middle Colonies and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781680" y="2514600"/>
            <a:ext cx="1981440" cy="173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Think of who controls the colonies to the North and South of the Middle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6"/>
          <p:cNvSpPr/>
          <p:nvPr/>
        </p:nvSpPr>
        <p:spPr>
          <a:xfrm>
            <a:off x="4495680" y="4724280"/>
            <a:ext cx="3560760" cy="173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664, duke of York becomes owner of New Ne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he renames the colon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1753920" y="457200"/>
            <a:ext cx="497376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e Quakers Settle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280" y="1143000"/>
            <a:ext cx="4572000" cy="28677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Penn’s “Holy Experi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n 1681,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William Penn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founds Pennsylvania on Quaker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Quakers 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deas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equality, cooperation, religious toleration, pacif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ennsylvania meant to be a “holy experi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adult males get 50 acres, right 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representative 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freedom of reli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114800" y="4648320"/>
            <a:ext cx="4114800" cy="947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Native American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enn treats native people fairly; over 50 years without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5791320"/>
            <a:ext cx="32004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oes Penn remind you of any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ttp://www.tudo.co.uk/quakers_craw/shell_quakers/contents/quakers/images_quakers/william_penn_1644_1718/william_penn_and_the_indians_of_pennsylvania_scr703x480.jpg"/>
          <p:cNvPicPr/>
          <p:nvPr/>
        </p:nvPicPr>
        <p:blipFill>
          <a:blip r:embed="rId1"/>
          <a:stretch/>
        </p:blipFill>
        <p:spPr>
          <a:xfrm>
            <a:off x="5024520" y="1295280"/>
            <a:ext cx="3906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"/>
          <p:cNvSpPr/>
          <p:nvPr/>
        </p:nvSpPr>
        <p:spPr>
          <a:xfrm>
            <a:off x="228600" y="2590920"/>
            <a:ext cx="3581280" cy="1221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tee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1752, there are 13 British colonie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09680" y="533520"/>
            <a:ext cx="4038840" cy="398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gi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New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http://upload.wikimedia.org/wikipedia/commons/1/1d/Slavery_in_the_13_colonies.jpg"/>
          <p:cNvPicPr/>
          <p:nvPr/>
        </p:nvPicPr>
        <p:blipFill>
          <a:blip r:embed="rId1"/>
          <a:stretch/>
        </p:blipFill>
        <p:spPr>
          <a:xfrm>
            <a:off x="4267080" y="1295280"/>
            <a:ext cx="44006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8:49:24Z</dcterms:created>
  <dc:creator>liam_mooney</dc:creator>
  <dc:description/>
  <dc:language>en-US</dc:language>
  <cp:lastModifiedBy> </cp:lastModifiedBy>
  <dcterms:modified xsi:type="dcterms:W3CDTF">2010-09-23T02:29:31Z</dcterms:modified>
  <cp:revision>10</cp:revision>
  <dc:subject/>
  <dc:title>Settlement of the Middle Colonies </dc:title>
</cp:coreProperties>
</file>