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1A0-5D4B-4909-894C-A7747A74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5E47-9F6A-4218-94CF-250EDEFF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5AB-997C-46E9-AA71-A3409A92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8C0-47BA-4BD8-B485-CDE0D4D7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3FC-C974-4BBC-82D8-3818EE8F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531-922B-42F9-8226-50E49977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9199-F95A-49D2-8514-EBB21033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F3E-7347-451E-9952-CCD27682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D4D-150C-430F-A2E9-6CB55DD5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A09-40DE-418F-BBFC-D15A06A9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CDAC-57C3-459E-A8A4-37FCCA6B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97B-6A26-4B26-9BA8-20228EB3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6952-BA69-4626-9D46-76D86FCF8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2626"/>
                </a:solidFill>
                <a:latin typeface="Arial"/>
              </a:rPr>
              <a:t>Settlement of the Middle Colon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4038120"/>
            <a:ext cx="5410080" cy="1143000"/>
          </a:xfrm>
          <a:prstGeom prst="rect">
            <a:avLst/>
          </a:prstGeom>
          <a:solidFill>
            <a:srgbClr val="f2dcdb"/>
          </a:solidFill>
          <a:ln w="9360">
            <a:solidFill>
              <a:srgbClr val="f2dcdb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Where the middle colo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Who controlled th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3062160" y="609480"/>
            <a:ext cx="3252960" cy="5814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Arial"/>
              </a:rPr>
              <a:t>New Neth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www.sonofthesouth.net/revolutionary-war/colonies/new-netherland.jpg"/>
          <p:cNvPicPr/>
          <p:nvPr/>
        </p:nvPicPr>
        <p:blipFill>
          <a:blip r:embed="rId1"/>
          <a:stretch/>
        </p:blipFill>
        <p:spPr>
          <a:xfrm>
            <a:off x="152280" y="1981080"/>
            <a:ext cx="527364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5562720" y="2057400"/>
            <a:ext cx="3332160" cy="34164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A Diverse Col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In 1621, the Dutch West India Company colonizes </a:t>
            </a: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New Neth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ttlers from other European countries and Africa welco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Dutch trade for furs with Native Ameri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286000" y="380880"/>
            <a:ext cx="3962520" cy="703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But the Dutch couldn’t hold onto the colon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513colonies"/>
          <p:cNvPicPr/>
          <p:nvPr/>
        </p:nvPicPr>
        <p:blipFill>
          <a:blip r:embed="rId1"/>
          <a:srcRect l="11805" t="1644" r="39671" b="4525"/>
          <a:stretch/>
        </p:blipFill>
        <p:spPr>
          <a:xfrm>
            <a:off x="762120" y="1447920"/>
            <a:ext cx="3352680" cy="5165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4267080" y="1295280"/>
            <a:ext cx="2286000" cy="11912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do you think wants control of the these Middle Colonies and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6781680" y="2514600"/>
            <a:ext cx="1981440" cy="1739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: Think of who controls the colonies to the North and South of the Middle Colo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6"/>
          <p:cNvSpPr/>
          <p:nvPr/>
        </p:nvSpPr>
        <p:spPr>
          <a:xfrm>
            <a:off x="4495680" y="4724280"/>
            <a:ext cx="3560760" cy="1739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664, duke of York becomes owner of New Neth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think he renames the colon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8"/>
          <p:cNvSpPr/>
          <p:nvPr/>
        </p:nvSpPr>
        <p:spPr>
          <a:xfrm>
            <a:off x="1753920" y="457200"/>
            <a:ext cx="497376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e Quakers Settle Pennsylv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280" y="1143000"/>
            <a:ext cx="4572000" cy="28677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Penn’s “Holy Experi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In 1681, </a:t>
            </a: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William Penn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 founds Pennsylvania on Quaker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Quakers 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ideas</a:t>
            </a: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 equality, cooperation, religious toleration, pacif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Pennsylvania meant to be a “holy experi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- adult males get 50 acres, right to 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- representative 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- freedom of relig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114800" y="4648320"/>
            <a:ext cx="4114800" cy="947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Native American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Penn treats native people fairly; over 50 years without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5791320"/>
            <a:ext cx="3200400" cy="642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Does Penn remind you of any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http://www.tudo.co.uk/quakers_craw/shell_quakers/contents/quakers/images_quakers/william_penn_1644_1718/william_penn_and_the_indians_of_pennsylvania_scr703x480.jpg"/>
          <p:cNvPicPr/>
          <p:nvPr/>
        </p:nvPicPr>
        <p:blipFill>
          <a:blip r:embed="rId1"/>
          <a:stretch/>
        </p:blipFill>
        <p:spPr>
          <a:xfrm>
            <a:off x="5024520" y="1295280"/>
            <a:ext cx="39067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0"/>
          <p:cNvSpPr/>
          <p:nvPr/>
        </p:nvSpPr>
        <p:spPr>
          <a:xfrm>
            <a:off x="228600" y="2590920"/>
            <a:ext cx="3581280" cy="1221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teen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1752, there are 13 British colonie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209680" y="533520"/>
            <a:ext cx="4038840" cy="398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Begin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New 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http://upload.wikimedia.org/wikipedia/commons/1/1d/Slavery_in_the_13_colonies.jpg"/>
          <p:cNvPicPr/>
          <p:nvPr/>
        </p:nvPicPr>
        <p:blipFill>
          <a:blip r:embed="rId1"/>
          <a:stretch/>
        </p:blipFill>
        <p:spPr>
          <a:xfrm>
            <a:off x="4267080" y="1295280"/>
            <a:ext cx="44006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8:49:24Z</dcterms:created>
  <dc:creator>liam_mooney</dc:creator>
  <dc:description/>
  <dc:language>en-US</dc:language>
  <cp:lastModifiedBy> </cp:lastModifiedBy>
  <dcterms:modified xsi:type="dcterms:W3CDTF">2010-09-23T02:29:31Z</dcterms:modified>
  <cp:revision>10</cp:revision>
  <dc:subject/>
  <dc:title>Settlement of the Middle Colonies </dc:title>
</cp:coreProperties>
</file>